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AC2-C51D-4DF0-9003-69F4F246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F1A-AC40-40F7-8A99-4B217325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70B-1F67-4D67-92FB-26F30E43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C55-6DF8-45F2-AC51-A6364F2D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CB2-D7BD-4FFB-A445-5291FE4A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36E-FC60-4B1F-A9B5-8AFECDE5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7DF-7575-46C9-8392-558030F9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08D-2F7F-4B63-881A-1E508008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2AA-FB01-438C-BDC7-3120D52E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83C-F2FC-45E5-A900-55A23D98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743-DBB5-4802-9449-5A99322C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0B0-116F-45F9-865D-0EC4942A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753B-0A10-4F2E-8EA1-6974131B1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5229360"/>
            <a:ext cx="79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La tortuga es despacia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5640" y="1143000"/>
            <a:ext cx="46814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5229360"/>
            <a:ext cx="79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La gallina es r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ápida</a:t>
            </a: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1125360"/>
            <a:ext cx="293868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4869000"/>
            <a:ext cx="7920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El elefante es despacio y grand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6911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5229360"/>
            <a:ext cx="79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El león es feroz y fuer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27241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5229360"/>
            <a:ext cx="7920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El canguro es rápido, energético y saltarí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84360" y="47952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4653000"/>
            <a:ext cx="8137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El pez es rápido y peque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ñ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4360" y="355680"/>
            <a:ext cx="49672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55640" y="5229360"/>
            <a:ext cx="7920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El burro es rápido y fuer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16360" y="1268280"/>
            <a:ext cx="282564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609480"/>
            <a:ext cx="75438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 tortuga es despa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 gallina es ráp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l elefante es despacio y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l león es feroz y fue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l canguro es rápido, energético y saltar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l pez es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l burro es rápido, fuerte y rabi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16:41:25Z</dcterms:created>
  <dc:creator>Owner1</dc:creator>
  <dc:description/>
  <dc:language>en-US</dc:language>
  <cp:lastModifiedBy>Owner1</cp:lastModifiedBy>
  <dcterms:modified xsi:type="dcterms:W3CDTF">2008-07-10T16:59:24Z</dcterms:modified>
  <cp:revision>2</cp:revision>
  <dc:subject/>
  <dc:title>Slide 1</dc:title>
</cp:coreProperties>
</file>